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A4382E-CC72-4D46-8918-9FE5850FBC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698D35-9D84-4119-BEAD-58BFDDDF4C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5F4B551-F706-4812-BF5C-02F5329156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AE3E56-BC60-49C1-BD9F-E06733B179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849C71-483E-48D7-A15D-5034D2E1A1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CD4D80-F4EA-44C0-B144-5442061691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Update 2010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AP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tah, ORNL, and LBN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ort common analysis and visualizations needs with fu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Analysis and Visualization (integration of fastbit for query based analysi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gnetic Island Analysis and Visu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ative Visualization (Experiment to Simulation and Simulation to Simulation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y tools to facilitate the study the affects of turbulence on the trapping state and radial diffusion of particles. Outward radial diffusion is heat transport which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 based 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integration of Fastbit into Vis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verters and indexing tools for GTC and XGC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aders – H5Part and HDUF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VisIt to supper Queries and Parti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Persistent Partical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remaining effor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query sel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mulative querie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Magnetic Island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sualizing the magnetic field topology is necessary to the understanding how the plasma energy is deposited on the material wall. Energy (i.e. heat) on the wall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 magnetic fiel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streamline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continue streamline integra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add additional seed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analysis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aptive streamline length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dition of more robust O point det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tegration of M3D C1 Ele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visualize scalar/vector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struct Poincaré plots.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  <p:sp>
        <p:nvSpPr>
          <p:cNvPr id="60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poincare_poster_4c"/>
          <p:cNvPicPr/>
          <p:nvPr/>
        </p:nvPicPr>
        <p:blipFill>
          <a:blip r:embed="rId2"/>
          <a:stretch/>
        </p:blipFill>
        <p:spPr>
          <a:xfrm>
            <a:off x="4386240" y="1676520"/>
            <a:ext cx="2320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incare_poster_4b"/>
          <p:cNvPicPr/>
          <p:nvPr/>
        </p:nvPicPr>
        <p:blipFill>
          <a:blip r:embed="rId3"/>
          <a:stretch/>
        </p:blipFill>
        <p:spPr>
          <a:xfrm>
            <a:off x="2052720" y="1676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oincare_poster_4d"/>
          <p:cNvPicPr/>
          <p:nvPr/>
        </p:nvPicPr>
        <p:blipFill>
          <a:blip r:embed="rId4"/>
          <a:stretch/>
        </p:blipFill>
        <p:spPr>
          <a:xfrm>
            <a:off x="2052720" y="3962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oincare_poster_4a"/>
          <p:cNvPicPr/>
          <p:nvPr/>
        </p:nvPicPr>
        <p:blipFill>
          <a:blip r:embed="rId5"/>
          <a:stretch/>
        </p:blipFill>
        <p:spPr>
          <a:xfrm>
            <a:off x="4386240" y="3962520"/>
            <a:ext cx="232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IslandsInIslands2.png"/>
          <p:cNvPicPr/>
          <p:nvPr/>
        </p:nvPicPr>
        <p:blipFill>
          <a:blip r:embed="rId1"/>
          <a:stretch/>
        </p:blipFill>
        <p:spPr>
          <a:xfrm>
            <a:off x="4125960" y="2028960"/>
            <a:ext cx="4051080" cy="37843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7" descr="IslandsInIslands1.png"/>
          <p:cNvPicPr/>
          <p:nvPr/>
        </p:nvPicPr>
        <p:blipFill>
          <a:blip r:embed="rId2"/>
          <a:stretch/>
        </p:blipFill>
        <p:spPr>
          <a:xfrm>
            <a:off x="531720" y="1676520"/>
            <a:ext cx="277812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mparative Visualization Cont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Experiment to Simul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nthetic diagno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perimental Data stored in MDSplu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get not only data but physical geometry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quires MDSplus interface within VisI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ility perform integration of simulation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 cases might require custom que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21:08Z</dcterms:created>
  <dc:creator>David Weinstein</dc:creator>
  <dc:description/>
  <dc:language>en-US</dc:language>
  <cp:lastModifiedBy>Allen Sanderson</cp:lastModifiedBy>
  <cp:lastPrinted>2002-07-07T18:28:39Z</cp:lastPrinted>
  <dcterms:modified xsi:type="dcterms:W3CDTF">2010-04-15T15:21:21Z</dcterms:modified>
  <cp:revision>1313</cp:revision>
  <dc:subject/>
  <dc:title>Geometric Modeling</dc:title>
</cp:coreProperties>
</file>